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EF15-8C68-4AD5-A612-4822773D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9426-5D59-4B6F-927B-6223A259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B71-150C-41A1-BC43-3F767E9E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0EA5-64FE-4C86-B9F8-71F2CFA8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6EF-B116-4A5A-8603-ECC516F3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F065-FD6F-4D34-BF08-A8F13F2B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73F-A507-491A-AF86-FF7F095F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DE77-A763-4E40-BDA2-EB3FED2B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F833-24E2-4A54-97B7-B4723969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008-EADA-4A48-AA55-4026732C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F328-40F2-463A-A2B8-81D5069F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90F-E413-4A9F-B825-2888618F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1E7D-4516-4EDE-8F30-1BAF7AC30639}" type="slidenum"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BenQ Confidential Tuesday, February 07,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8258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3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3-06 A1/B1 + DL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8/04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7/05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2/06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7095960" cy="3281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3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A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3-HW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7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P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1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DS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5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3/S4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9/10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6:09:31Z</dcterms:created>
  <dc:creator>BMLaha</dc:creator>
  <dc:description/>
  <dc:language>en-US</dc:language>
  <cp:lastModifiedBy>Wolfgang Klebsch</cp:lastModifiedBy>
  <dcterms:modified xsi:type="dcterms:W3CDTF">2006-02-10T08:10:59Z</dcterms:modified>
  <cp:revision>59</cp:revision>
  <dc:subject/>
  <dc:title>Jerry - DL</dc:title>
</cp:coreProperties>
</file>